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DFC-93B8-43C3-8616-1EEBE1DD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7C8-3A36-41CC-9857-87BB15BF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EE514-FE62-4ADB-AD0F-177C240D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D7867-AF86-48FE-A489-9DBEA01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5B811-E67D-47AA-BBDA-32D8E0E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65059-8BF9-4652-98AC-2AD3765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4EB0C-A96C-4578-A5F0-1866B777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F3B07-D87B-4CDD-82BB-341E1CB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0C886-54EB-427A-954B-052F767A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3EF09-8C06-41CA-B2D0-AF223BD1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7545D-5B09-4DC2-8805-7D1DE8B4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B330F-D47E-4CE6-A8D8-122183AF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ECF-C3B9-4638-A662-6BF3C866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D136B-2902-4EFA-97BB-D8D739A1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6E76F-9245-4D1C-908F-CD9D2E42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6D287-96E3-4488-9473-38FDB001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788DA-0CDE-4815-A384-9A535F49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6E3C5-601D-4CCC-B701-AB7A5CB1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D4D88-0E04-4C50-BF7D-D73F436F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9F6E4-A107-4D67-BC80-E34E86A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DA853-00EF-412F-8DD0-28DB533B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33C60-8D7C-4835-B767-AC8B75FF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3C1F1-F3D6-4361-AEED-A610A7DC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7B9-5DA0-4CAF-9939-BA17970C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9145-4FBA-4FED-9A42-413DAE4E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88E37-2ECF-453D-9613-F048D5CA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B96FD-8A01-4633-916D-E0C2339A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9B7D9-FCEA-40FB-9C06-2F1F5473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F5718-7883-4340-B369-A9545A58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31D32-480D-4DCA-A35B-A4E24D86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D1CD5-BBC7-48CC-9E25-2AAF144C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60040-AB57-4E04-B9EE-DCBEAA6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CDF56-B07C-44D2-80D8-93EDC10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A5E2-B50F-4F65-A242-08C93638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5261-9BA8-47FF-856C-A22B97FF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DAF9A-8106-42B8-B881-4A1226EB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B636D-8664-4B65-BF24-4A2F23A1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0724A-81BD-4FCA-91B3-D35DC7E6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93845-A2B7-435B-853C-875706D1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F8F49-E401-47C7-88ED-218B981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CAAE7-36D5-4415-96EF-C3775888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DA6B1-1728-41B0-B913-FE8E6623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1D9E3-FA63-4320-80DF-B4E2D568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81033-9563-4FA7-829B-E7CC4162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3E8A2-0818-4801-89ED-CDA45380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2448-AEFD-4A84-82CB-B3BA55A9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5D05E-F5BB-43CA-8380-6042D3FD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A43CA-47E0-467F-B5CE-2A8825C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7C6A7-0D46-4BD1-BAEA-A6F3BD7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80BDB-D75F-43C2-84BD-18529D7B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34698-F4CE-4566-B95C-6235F855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ED093-96A3-422F-85F8-C6FB3783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B2EB3-F5A8-49D6-BFFE-F0F983ED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251ED-E482-4990-8D78-5D57FF63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624E1-CC83-4709-98D9-8800FA5F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831A3-3ED0-4DC9-8E04-6118D1E0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BAD9-67D9-4472-92F9-FBD1EC3F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12830-7624-4E1F-A716-4CBEAE2A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543C5-A8F1-4222-970A-44251888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002DA-4624-4466-8942-0AA2D8B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3F9C4-F22E-4322-B10D-767FDBD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F496B-803D-4A33-83EB-01C0D85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ED8E2-2256-4C2F-AF88-65A4ECC4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F3FD4-259D-4C70-BC6E-0BFBD00C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D41A6-2FDA-4877-AFA6-F95A1165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ADBC3-E012-4269-BF33-8F8E982E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A69EA-ACF2-4BB2-8A4D-2D91A4F2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FEFC-2B54-4BD9-A9E5-A7DBC407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58EEC-88AC-4D3F-96F5-4F9ADE24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69D21-1A73-4EA2-96EB-E39EF0D7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98B65-F5ED-4937-B5D7-9DDD8A78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591DE-0F49-475B-A499-EC66FFC7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2BC76-5522-4454-937A-BADFFAE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1266C-CB84-46BC-8E37-4B38C70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BE540-13BA-4363-9159-D5135B96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1F41F-8450-42D0-895E-445AFA60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DC4EA-5142-43F5-8851-02B60EA7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CD644-F768-4BDD-A978-32BB3BEA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5AD9-6604-4421-B90D-F8AC416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0A466-67EF-428B-BA3C-754DF714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AF658-456A-4989-BF14-E60A50C4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D7459-C5FE-4434-8AB1-F9A8E9E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1487F-AC1E-4E24-8AFF-98867596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8FFE6-4C25-40C3-A230-154CAFAE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08F84-7E3B-4425-82D3-EB2A9A2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5CC1A-6949-4BB0-AF2B-8A88CA52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97D98-56E3-4D65-AE8D-47BA70D0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4A20E-BEF8-49E4-A14F-F31952B3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1CD59-4E52-4136-B361-D1B756A5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C62F-977D-4CE8-901A-44CAECFE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32233-9ED6-4B52-AD63-C29137CA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832DE-45D2-41CB-9389-7CF3415F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0A4F7-15F0-457D-969C-01F0E0D6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43132-2663-4BB5-9973-787692C7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27905-5B4C-47AC-96B5-46EC0C4F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97B21-6972-4BD1-8557-CC62D1A4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5BCC9-1C70-4ABD-8C2C-948BC70F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2BADD-4153-4747-9099-A36E484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547B6-7F58-48F8-BA78-90CEC1E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362E1-0944-4491-9522-9765FEAE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F077-DFC4-4535-B563-CEA2EEC2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B88E3-F9D6-40D0-AF4A-9B258543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C1E91-24C7-46B6-A611-3001629A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45954-644F-4E34-AC34-66F5FE1A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0365B-D026-4B9C-937F-42B61F7F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C12E2-D19E-432F-A06C-FDB26A5E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5053F-655C-4BFF-B8C1-2B78B8E7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091C0-9E0E-4368-A4BC-79921773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785CF-3EE6-47EE-9B05-737A558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D7D9F-70A1-4A99-B2A4-65CEEC99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B4498-368D-4A61-9BE6-1061AC5E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037-46F8-4E51-A626-236E75E3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C37-BB68-4B07-93F9-E97C064F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EA4F3-671C-48EE-B464-447EADB0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60106-B7CF-443F-9206-4593945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CF5BA-A6EF-4DAF-B270-A498E1CC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5D77D-DEA8-4439-B146-AFBB7DE1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0AAD1-E3CF-40BE-9A57-0143934E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A2AC9-D3C0-4F17-88CE-818F4D19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FF56F-E075-492B-B264-A4C1D42B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1B4A9-3A8B-4D7A-881B-A3D75C70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FF97C7-A5E0-476F-8594-5199925D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5F9BA-DDA0-4D67-999E-B47B4092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E3A8-BACB-49B6-919B-53229F1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35B56-97D2-49FC-B3F8-43F57D20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230AF-CBD5-4D06-908A-189F602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1FF80-77A0-43E5-A64D-04363AD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74D6D-A562-46AA-ADF0-057643CC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A8E02-D237-46E9-A62D-DCF90DA7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090F4-AF1E-4D73-BA7C-D96072E4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70B36-5929-4026-B33C-EF29FDEB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669D3-60CF-4293-B6FB-BDAEA7C2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3039C-614D-4301-8AB5-B00FC9B2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DA4AE-EA31-474A-B1A6-6AB8CEF5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5F09-2347-4EA0-BE10-42E00B2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6C641-3F87-4B34-8E86-DA81FEB6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A0C6B-D46A-4052-82B6-28F7E1C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279F2-FFBE-46F6-8190-5A7E0776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8381C7-6FBD-4563-BA18-8C8B4B99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19259-8C62-48DC-AF48-9033505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B65C3-45F6-454D-A880-8DBD967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3C920-438C-437D-AC23-05296011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18B33-B7FE-44AF-BBC6-773299EF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E1B34-0F9F-49D2-92D9-588D5AD4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4F740B-E71D-4E53-AF6B-6F52EE50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13D-0A67-44B1-9C71-58F304DF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D7437-8F7B-4E49-AC39-B401EF4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DC7A5-8D78-4492-BAF0-B38FF070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1018C-FEAE-4953-993A-B659DD1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F5A50-A848-4456-B144-366CD836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117DE-F022-4ADB-95B8-8F809AE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34AF4-2A52-4052-A516-CF7ECC1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265DC0-FCB8-40F7-8283-3ED4A3C0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A05016-6F37-459A-BA9C-CCBCE18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6DC50-8E83-4CB8-ACBC-08A2DF96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6632C-27CD-460C-868C-2898A4F1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9656-A904-4EE9-BC63-3DDC6BA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20AC9-2CDD-4489-85F3-3CCFE072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27169-8771-4249-B135-5ECDA286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169D00-9BE9-497D-B30D-0E17C23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C59987-53B6-4C62-9DD7-54F436D7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C7721-06E7-4925-966F-68445DC7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3DB44-31EB-4291-A59A-6D52BCD3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8D7D8-4D33-4856-8AE3-B1449025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24532C-E68D-40EB-9E4C-3A4B3F6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D5DBF1-B5F2-414B-8D66-46A9A2E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3A1358-561F-4185-BB66-1F4F99D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36D2-6BF0-4E0C-8475-666469EF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26BFC-8E10-4D38-B1EC-E2F2870C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A699D-3D83-437F-974F-C248AB70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E90FA-2624-451B-9065-22B6FFCD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03D2-DABD-4077-98A4-F40CC564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1C16-32FE-4A41-90DD-C775006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BF346-CDF2-4E3B-86D5-47394684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27F9-C20B-46CB-AEC3-97ED39A1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502-AC3C-44E3-8FD2-5B8BC165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F3B6-D16F-415C-AB45-60C8210E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0C53-F624-4DE6-A3AB-CCC561D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36AC-7660-4058-A783-002DBB09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FE8F-510D-422E-91DB-3DEDB3BA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3D97-3C53-4800-B7AA-77447EBC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4A74-DB72-472E-AF4D-2FA7D09D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EA41-8761-4DF1-ACBF-85D54FE0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85B9-B6DE-4D97-8474-218FE80C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EE9F-D36E-4144-A2F8-5355DCBA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7D455-F1CD-4478-B9A1-5A09BA5F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220-160D-45EF-A117-3B3CDA19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A47D-D2E8-4730-AF75-0F22258D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5408-DDD4-4E2D-904C-AEA0D77E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9F61-992A-441C-B778-FCC59E6F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080B-21DE-45F5-988B-B60B11F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B970-BD7D-4901-8964-40CB369C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D2B3-5383-4432-A062-071F1DDB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A954-7B05-450B-8FC2-1E7D6464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94D1-0E6A-4318-A15A-3FD8702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2132-92BD-4601-A1DB-71287D1D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341A-DB7F-41CE-9BBC-993585F1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E1C-DF2C-4780-98BD-C1C3BA8A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FF2D0-9ABD-482C-B432-E307209C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D6B61-C93B-4E3E-B515-91E2D172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0A48-D71E-44E2-8A4C-EBE87FEB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6E2D5-8F58-4E8C-8CD8-1A4BDF78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BE28E-D3F3-4C22-8F37-AE6B2551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1016-3D62-45E3-AD6A-BFA11722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220F-8D4A-46A8-8526-5B01E488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B79B-2FB8-4DC6-8918-A62A8AD9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2CFE8-41DA-4F9F-98FA-BFE26CA1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9092-822B-4104-A902-4B41733B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B47-903F-48AB-A6C7-80AE87A3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1649-4FC7-4568-96D3-5E4C64E6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87D95-AAFC-408A-A116-90605CED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EC4FE-418C-448A-82C8-91E065CE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83B2-7799-4ED9-B631-D4381E53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24F03-ED21-414E-BD9A-8904DBE7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41CDE-9003-4F31-8CDC-65F84683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14378-0304-45E0-914D-F2D62FFB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60A44-0AC2-4F0A-90C9-616981E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E73A6-E4AF-41ED-A548-E82C9B5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6E15A-69D6-4C37-AD3D-A0E26BB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A4B-1BB7-4A27-96E8-38367A9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8D1F-6754-4D8C-A98F-F7BA825C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8172D-B079-49A0-B418-2148C1B2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15CD-C6BD-4391-B1CA-C95A7879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1ECF1-90BD-45B4-913A-7CC7F081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0AA45-5BAB-4F47-9B1A-28957FA0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F531F-AC5F-4E0A-B103-0839A5BC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5F9D0-F213-4B07-B45B-2911A0DC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B8401-45DA-4250-8F0E-F2AACE80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6042-2F76-4143-9913-2BFB0918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1D32B-AC56-4F66-9C9D-5BA3EBEC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50A-106F-4010-BEDE-3C45299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3F8CF-21AF-4F0D-B33D-9F34C3A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BA5C2-734F-4250-9CB5-DE5EE5DC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4C316-96D4-4773-A2E1-CC5BC6E6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1630F-EB9E-475F-87AE-00CC0EC7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1FE8F-2344-4CF2-8476-EFECC5F1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B4E82-5D62-41E9-996A-0721DE57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F671-F5B4-4123-924C-DEC01E5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33ED8-A19B-4A4F-BD75-E855876D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7E3C9-7F52-474C-A872-86D04DC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40A5-D617-43BD-9642-55C6A598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BD4-1C00-4940-8EB2-70F5BB8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508E5-BD37-4D70-B0AC-20C4DF06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EA188-0FA5-4E67-AB74-ADAFC55B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45DF2-AD69-4AEC-A785-3283468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69161-C383-4B4E-9E18-E4D73ED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C743E-8F15-4B2D-BA48-DC40BC92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B4B68-0215-4692-B57A-7EB19F75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679DC-81EE-4E62-A46A-B32BC2EF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B8AD3-743C-430F-A337-1D41734D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05725-AEE1-4BE8-AC80-B331B3B2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DDD2D-ABBC-44CD-8C8F-873DEE1A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9326-4B59-4E9E-82EB-1ADAB8C807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A6B4-6FB5-4FB8-A1C1-FA1D6FA315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29EB-816C-4133-919B-D5583FF88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46D6-4FF5-4A45-874F-0BFFDCAEA6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8370-93E0-41A9-B33D-47E5DD5204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924F-0DD7-418D-BD08-9EFC136EF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6C5E-C3DD-4FB7-8B9D-ABEE03C22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9FF1-8075-41FA-B4CB-C09D5E6057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82D7-2348-44B6-87EF-CAAB0F461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457-6A38-45D8-84A6-0DFEFEF9A3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D5A5-6C93-4A3E-824D-A8C9019C33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8313-2CF0-4D99-82D9-761D551F25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615F-2A64-41F6-9B75-7865691025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AEBD-87FF-429B-B6D6-5CB07325D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7A78-FCAC-4933-A64C-4DCCD89F9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62DF-F850-45D8-945B-6BE1A4F23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771-5952-4AB3-B2B0-11D48F346F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F87-96D0-433E-853C-E3C2447C6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16E4-7723-49DE-A15E-A8C99AAC6E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3DFC-A274-4E8E-851E-EA16A647B7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57C2-26CA-459A-AD64-49CBD19B83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AD22-138A-4012-8444-45D9E4E42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7F77-21DF-42C5-8246-BE9AA0BECB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F8CA-E72F-4BAD-B151-84334B9F9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75B4-1AA1-4D98-ACD9-DBB7EBBD72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D6FA-53BB-4C4B-8119-FFB7D6EA1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09FC-34CD-4F7C-9ED9-1DBF7AD1BA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9287-B788-4D06-A4A0-510939540C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3FBF-F759-408F-950A-3B039A8B95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A384-9A0C-4E38-9B1E-FA7BA7810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F793-9C4D-4AF6-8995-DB5EF5862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7206-F75A-4652-8174-1FEDD9AA6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7950-17AE-48D3-B067-DAC5CB48E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598A-3102-490F-B2A5-5CCC86B55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DDA3-A7C7-4EC8-B143-D08DB1CE9C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24AF-C1BE-49A2-8C05-386152666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3B62-060B-446C-89C6-CD9780A4C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2464-B173-4607-927B-6EA1D256E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A19F-DA67-4965-8139-D99A34B9A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CB82-9638-4237-9ACA-8F8A0FA8E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28760" y="3000240"/>
            <a:ext cx="64864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458040" cy="207648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69634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7743960" cy="19908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4038480" y="1413000"/>
            <a:ext cx="533520" cy="720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4067280" y="227664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064280" y="1413000"/>
            <a:ext cx="533520" cy="720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7093080" y="227664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2211480" y="397656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8"/>
          <a:stretch/>
        </p:blipFill>
        <p:spPr>
          <a:xfrm>
            <a:off x="2124000" y="4840200"/>
            <a:ext cx="533520" cy="7207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9"/>
          <a:stretch/>
        </p:blipFill>
        <p:spPr>
          <a:xfrm>
            <a:off x="5164200" y="400536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0"/>
          <a:stretch/>
        </p:blipFill>
        <p:spPr>
          <a:xfrm>
            <a:off x="5076720" y="4869000"/>
            <a:ext cx="533520" cy="720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1"/>
          <a:stretch/>
        </p:blipFill>
        <p:spPr>
          <a:xfrm>
            <a:off x="7899480" y="399096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2"/>
          <a:stretch/>
        </p:blipFill>
        <p:spPr>
          <a:xfrm>
            <a:off x="8142120" y="4897440"/>
            <a:ext cx="5335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781200"/>
            <a:ext cx="8553600" cy="5743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327024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28472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516720" y="4508640"/>
            <a:ext cx="1368360" cy="865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859280" y="5560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903920" y="6078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57280" y="1409760"/>
            <a:ext cx="8029440" cy="4038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1727280" cy="863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457200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572000" y="3097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1692360" y="4508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318960" y="723960"/>
            <a:ext cx="8506080" cy="580068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8375" descr=""/>
          <p:cNvPicPr/>
          <p:nvPr/>
        </p:nvPicPr>
        <p:blipFill>
          <a:blip r:embed="rId2"/>
          <a:stretch/>
        </p:blipFill>
        <p:spPr>
          <a:xfrm>
            <a:off x="1576440" y="2521080"/>
            <a:ext cx="2666880" cy="10382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8376" descr=""/>
          <p:cNvPicPr/>
          <p:nvPr/>
        </p:nvPicPr>
        <p:blipFill>
          <a:blip r:embed="rId3"/>
          <a:stretch/>
        </p:blipFill>
        <p:spPr>
          <a:xfrm>
            <a:off x="1576440" y="5445000"/>
            <a:ext cx="2666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471680" y="1333440"/>
            <a:ext cx="6200640" cy="4191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692360" y="4437000"/>
            <a:ext cx="424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71440" y="1519200"/>
            <a:ext cx="8601120" cy="3819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4321440" cy="936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4321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90520" y="1190520"/>
            <a:ext cx="8562960" cy="4476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4969080" cy="1022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00000" y="4797360"/>
            <a:ext cx="57596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427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67760" cy="6162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403280" y="3789360"/>
            <a:ext cx="4464000" cy="934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4464000" cy="934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332000" y="5950080"/>
            <a:ext cx="5256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2231" descr=""/>
          <p:cNvPicPr/>
          <p:nvPr/>
        </p:nvPicPr>
        <p:blipFill>
          <a:blip r:embed="rId1"/>
          <a:stretch/>
        </p:blipFill>
        <p:spPr>
          <a:xfrm>
            <a:off x="642960" y="1709640"/>
            <a:ext cx="7858080" cy="3438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5257800" cy="9367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1187280" y="4192560"/>
            <a:ext cx="633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31:2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